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9E5-F9CB-4536-A09F-DE180724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E8-613C-4225-A3F5-120DD3D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F8653-70B0-4AD0-872B-DF53269F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650EF-6BB5-4698-9BEF-4023FB5C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09D43-48C6-48C5-BDF9-248E737D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DDFBF-9ED3-4B11-B4A8-65FEF596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A5C06-60C4-460B-8351-F89FE74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4A27-7E40-4324-8598-15F097B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A70C5-6408-4F0C-925B-5ACB3775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80A79-4850-4BD9-A91B-E6A8C1FD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59B93-9F92-4621-AED1-3B0644A8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53332-5681-4CE9-ADDF-F44D1FFA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B33-6FEA-44E9-8D42-61EE59F0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94E3A-E940-425B-B677-C22FED6E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C507A-149A-42D5-AEE8-DF603045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C972F-3581-43AE-8D67-036697A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38909-702E-4254-A271-BA75A2DD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D277F-06B1-49A1-B0B8-11BF214E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E0C10-DF29-4449-882F-566F845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130D5-671E-4E41-8BC0-F30FB89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4EEFC-8F4A-469C-A037-6CE07E8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37724-15F5-4B7E-91DE-A7C1DA73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072B0-46C2-4561-B965-40FF9A92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4C8-9A5D-45C7-966B-93CF1762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795BD-2783-42DA-8B67-32742BF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5FE3F-4125-4B32-A018-DA609ED7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E2094-9B0F-4731-B00D-3DA97754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CD72B-B555-4B8A-877E-675AAB7A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1B9CD-2189-432D-A727-FB03F02F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E83C0-FF2E-451C-8BA7-3A565C39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8D0E4-973A-407B-B9A3-ED7C3C9E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0037B-C9CC-4FB0-97D4-55FC12C6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00D9E-601E-4DA9-BDCA-B2447F44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BB20-CBCF-48AA-9D7B-7EFCD9F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85A1-82E7-4DEB-B074-A696909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2526-83A0-4FD2-AD93-78B11ECE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8CFE-9FCB-4313-95D8-B6CC9A77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181AE-EC04-49D6-A75F-6138B2D3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FB6B8-9C71-41C7-B9D1-CE80C0B7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9A709-01F2-45A6-AB4B-16825BB2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CE2FE-9841-4C4D-AE3C-88F11ED3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A8B45-BB6D-41E3-BAA8-D2E036D1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F52D6-5B57-4EEA-8B8E-F2FD216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7FD73-B62F-4DAD-811E-38B90ED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C62BA-3C95-40A4-8151-DF0F59E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25A-5653-43CA-BEAB-4FA46832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25A22-769A-495F-847C-289B33D2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6C1B9-DE33-4D15-8896-EA9E4BC2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69A78-0118-4338-994F-17AF3D02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DA0D3-157A-4A37-B429-C5E861DF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851AD-3B66-4F1B-9B15-8617DA2A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640E5-A203-4011-88DE-58086EF8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063AF-9160-4714-BD53-5D4A767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18811-DAD9-4163-8702-70818CC4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C1347-B892-4F98-9B99-67942BF9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7ABFB-7038-4FC3-B1ED-1594A5B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AB8A-7821-4CED-8AA6-7226DA3A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ADCC3-6FEF-479E-B65B-2A4B29B7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9F703-B164-47D8-AB93-84E7D17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566A9-27EE-4A93-83FA-9EFFE02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B221A-AE3F-4384-8C81-7F4146E6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13F4C-2674-437F-A0D5-5ED05D68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5645A-6F76-45DD-A36C-8EC35EBB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B6E8D-0BF3-4890-A3C5-0F3559CD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11553-184F-493B-8BD1-1227F383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3097A-5F0E-4F03-B675-54011F18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A2DA1-72A3-4ECE-9200-9BC3575B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AE81-3693-4257-AB90-9E7E0AE3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D1657-69E0-476E-9DE3-2A42D24D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FE3E0-FBF0-4CF5-9D9C-188EFC4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782CC-7009-49A8-B9C1-C846DE27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D51CC-90F7-4171-92A8-97C1E41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8F66F-C643-4DF9-A40B-D72FDE2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88C56-835A-48CC-A740-1FFEC272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81264-800E-43D7-B0D7-BA1EC9FE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4DBE1-BD4D-47BD-8672-F9AC1015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D851C-07E9-4383-92F5-A9FB0A30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63C6A-32C5-4D29-913B-42D3B329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761C-F29F-40C8-B0A6-057441FD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E257A-AC72-4781-86E4-B91D39C7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15146-802E-40AF-BC52-162C08D7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94057-8E2B-443B-A3E4-A127619F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003C3-9C37-4CA4-AAC7-DBA9D5D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AD538-F776-41B2-8AC3-60B5C049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43193-D25B-4AF6-8630-F21A970E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6D313-5536-49D6-9A0B-B6EB9111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93824-F0E0-45EA-A88F-B12FDA7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C1029-6236-487C-8E2C-6F308C8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B1868-EBD9-4078-9731-9FA38B10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4463-7292-40B4-938F-26D9563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C1D72-9857-45D9-99D6-47EB88D4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3575D-0A55-4FCF-9DC3-2AC3D93E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CED65-9516-4F5C-853F-6C741033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A1C0C5-36EE-45B8-994C-2C440954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52B47-B932-4047-991B-8F8A08EF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36B27-147C-4143-A0FB-9D309EF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5924C-3D17-4A19-962A-34A66E4D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2CE8C-09BC-4D62-BCA2-DEBD1AA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FD248-F3E5-4957-BFFA-AF5F1BD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825A7-DC07-44F5-BE00-79D7957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B6DE-1A77-48F7-B1CC-06C8FBB5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74212-16A0-433F-A1A6-10D5D91A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66B22-4CE9-4B7F-8BC2-8A7E9304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BADDE-C589-4DD8-A371-286F007C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78C4E-0A6D-4198-AA8C-CC63403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AD32F-8B22-4F32-972E-4B1F7F6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32DF2-91A3-467A-BDA3-919DB053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238F1-7014-4B8B-9D69-7FFE76F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7990D-244B-4EF6-BD00-FD5128C9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54A9D-B6CD-40C9-A9A4-A25E0F83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BACD2-B753-490B-B629-D2AA2DFB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91F-BE44-451A-B474-DBA6CDA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9C53-F139-490C-B294-7162F3C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255F5-B50A-45BB-839A-42E6EF1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3A5B0-37EE-4E49-B352-622A2E11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7F226-53A2-43FA-BCC9-B2E02993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5BFAB-092B-40D3-8EBA-56278524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4FFC9-D0C6-47CA-AF8D-3FCC39DD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5061B-17F6-4791-B12D-C7A1E851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3590B-0876-4BA8-AE5B-A2AA99E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24523-5A6D-4D60-8C00-D133FDE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BE8F9-9495-4405-9C90-0D225CAD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0613A-062E-44FC-ABE0-5631B289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937-7119-4D47-BAE4-7726B3B1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38639-4E8C-4C24-8FD3-2572A0B7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5EE1D-F61E-4319-9BFB-3386EA0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1B8749-984D-46B9-B963-2C55366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1F523-1BF3-458B-9BB5-3A7FA71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78DAE-487D-46E0-BDB7-1F0F98AC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A2B29-74F5-41EF-B13F-ABC99C13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60AF1-6466-4A96-A963-64FFA5A8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3328F0-BEB6-4B59-9D63-2DB0AF5D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1FC39-04DF-4A90-8CC3-76589DA2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439D7-0913-427E-A0F3-139839DB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C40E-ED18-4B20-8157-859A6EC6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138E1-358D-4200-9548-B35E6944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01A2B-9D8D-4451-BD03-BE777A0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E26EC-7F76-4294-B7DA-7347633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24FBE-1CE3-47DC-8166-C38B3B3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E71F5-9BD7-4DB5-A1FA-EA56353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E0D74B-37E7-43A0-A782-747A4CD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F695E4-78E1-4A15-B36E-52B3F498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023403-299B-4B5F-8E68-07C16576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0A62A-8979-4D19-B829-962CE9BB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B7968-1190-44C4-984F-BCACBF8F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9DBC-5721-45BA-9AA9-E4D8EB0B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8A232B-B725-4948-9DB1-D19DC0BC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D82AFA-F46E-4421-81EB-01DC1B0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636A9-6F53-44D7-828C-E9E5F566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B0D1A-11D9-4AE1-8123-84D3F2F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9818C6-4887-428D-8743-46BA511D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30678-5E8A-4697-B02C-9271201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9A278-426D-4FFA-83A2-3F641C1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49592-F22D-4E14-AF60-4C757D3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228D5-BD9E-43A9-8492-DA38FFF8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522B2-5664-4087-8140-EE1CF028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13FB-0EBF-4E29-8BFD-59AB3FEF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B8493-2DF7-42B6-9CFA-DEA82ABB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71968-EF51-4E42-AE78-0BD9C2A1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09BB78-CFE2-47B2-A044-28EA21D4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17738-BB7B-4EB0-84CA-E4E19DC4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666AE-5605-4343-AB81-98FBCD0A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E0D7D4-5613-488F-87AB-CB02683B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C93DD7-DB9C-4EA5-B7C2-28090AD4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6A968-D66A-4AE5-8BBB-CA9D0E9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B247A-B562-40B4-A702-F3C24FB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1AB0A-FBFD-49CC-BBF0-F87E13A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63C3-C681-4BDC-B144-C08E06D2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9A5D1-FF60-4BBC-87FF-6C08E33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0CC3B-269D-410A-AD18-1DDB12C2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21ECE-142E-4388-9BE8-0A2D7A70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B08F-9347-4D17-B875-25CE1713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A7E0-1DDF-4149-A55B-26C7401B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2828-FEF5-4211-8238-48F0CA7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9626-D09A-44B6-A2BA-9D6FA7BB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F5A-9BA5-454C-9219-F8C0925D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337F-1954-4CB6-8287-3771D7A3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E7AA-6645-46F6-A80F-3905DD7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DB66-91C5-450F-B3C8-2F1B8AD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2DF2-22AC-4664-923F-E9DF1DB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5FEC-8332-433B-865B-8B0CCD6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F4FF-DD6F-459A-835E-AA130850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09EC-CB2E-4395-85B3-EEC454CE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4F27-A066-40F7-A1D7-83E2DA75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37EBB-F8B2-4852-AAFA-9F438A7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CE95-AD5E-4524-B988-09EB90AA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CED-B291-46FC-8FAD-0A809BD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875A-ED77-48CB-9432-EB7E0E01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6CC2-46B3-4C8B-A818-2C685B6A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0A0D-A615-4751-A865-D9568E71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5CC9-C88E-4863-9C96-CB0BC6B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5FFD1-FB1F-4D99-AF56-E1BD8F16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33886-8BC9-4DC3-B33D-3ED5A04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E1E6-C43C-4D9F-9326-A93C33C9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3D30-3162-4B52-91E5-BBCD6C61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44B4-586A-4595-B115-85133073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0A535-13C9-48E3-A5FA-C2D058D6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701-487A-422E-9EF5-37EEBAE4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6AF4-A120-43E4-BCA1-CBEBC935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5388F-220A-4FAC-83CD-49472643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B466-B3CE-4006-BCE2-432A0B17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9EFA-C824-4B96-9835-6A7F399D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82248-B565-406A-9615-E307D0B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C84C-8C9F-47A9-8B7C-D26B8AA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F3B4-0CFF-4593-8D81-8134F86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6C275-81AA-4117-80D2-DAD19AC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C9C5-8C56-4015-BE91-A87D5276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662A-9BAB-4FEB-8DC3-9362E5A0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B6E-414D-4C2B-93DD-AB9EB2DB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AD9D-097A-4BA5-8388-E214A26F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56F6-6423-4016-8452-7D0D9113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4342-C03B-4897-B377-61611D41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0F9A5-C7BC-4628-951A-9755BC5B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4366-A39C-46A9-BCD0-4E7F47B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3EE1-BE8F-40DC-BC67-21AFC5E7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F9BAD-0765-4A31-B94C-B8CEBA5B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9D5D-4354-4D1D-B98A-BA9A4DD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40074-ACFA-45D1-8657-411D4E6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C6D8-F474-4827-B824-B157826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E6F-8D04-486F-8647-C9E515E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FFADE-AB0C-465A-A22E-1CBEB2C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7E22-84B4-48A7-A2FD-1925FC86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E989-B1E9-47C4-B183-493B5F59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68D38-3019-4F4D-A4CD-C8BF8817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E5389-913C-4FC5-80F5-8A4F29A9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C53DA-DDC7-4379-812C-A661C912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E84E8-AC55-4207-8813-368DDA50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AEC32-D014-49BD-AC5F-B7613BE6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256F6-1C58-45C5-860A-47F0CE82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DB3E4-D49C-4CB9-92C7-AFA36B2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A6C-D227-4062-A30E-00305AF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5BEE-380F-4060-B9B2-CBA33B8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CFF6-23A9-4BA1-8D54-38A58A32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98A49-0FE1-4BF0-9BCE-1529921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747F-6DEE-4E2E-AB8B-4A63B754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034DF-720E-4051-9D6A-21DACBC7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A010-A00C-49A9-B53C-0A4E362D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3BC2F-563A-49D6-B572-E76CD82B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59EE7-944F-4207-BEF0-BB77A21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8C95-8006-4D92-A77C-51767BE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984B-EB9A-4D83-A9E9-15627E2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9FC-8352-4DA2-A94F-7E8AFC9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35C0A-670C-4482-9F2C-4DFEAFC0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AC379-D084-4A12-BED5-404AADE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24976-7F78-478E-B9B1-CD09F64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8D1AC-2029-4F1E-BFB7-82425EB7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5AA69-30E2-46B3-834B-45F47C04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2ABAC-0B40-4C0B-AD96-980A24BC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172B3-E838-4302-8A1A-4ABA5DCF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1F642-C2AD-49D0-B7DA-DD1EA2BD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B5CC9-4848-422C-8B20-6566E8FF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174D2-7172-4C4F-B0A2-260D456F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DE1-F3BF-44C6-8777-9A4CBAA09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133B-6822-47A1-BA4D-722C5BD536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9BB5-420E-45E0-A360-CBD8C591A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7987-13AB-4449-81A4-44EC7D83F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E687-D8CE-4F13-A7A0-BAFDC7783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970-4C84-41C2-AFDA-D450D1CC3C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D811-6BD5-4AD9-B597-59B85AA03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236A-2FB3-4EC7-883F-CCA7F56625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A54-AD6F-4CCE-A11A-62C27AF72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C63F-DEC7-4FEA-98F5-04E170EED8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6C95-AB0F-4231-B545-490BC6F87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6D1-22CB-4785-ABBA-47D3E6608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A163-9FD6-4AE6-9021-B5A2F686C6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7E69-1F38-4C84-9CB7-F7A674821C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38C-AC0E-4C3E-87B6-559F5BF23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207-0269-47A7-88DB-03F184B73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19F3-D70C-4D19-9999-CAFB96DCEC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12A3-D632-47EC-9601-45CDAC00C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872D-156C-4956-BB19-E2045F60D7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9F82-4E6E-4846-88A8-E06057531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DA4E-EFBD-4EFB-B1BB-F72407895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AE47-60D4-4088-AE66-0E03C2C7C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8296-9F6A-43C7-9B10-3349551E8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149-8C06-408A-93D3-77324963A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83A-4D9A-4B0A-96E3-887C23375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1A57-B193-4A72-B948-971983A75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541A-1F9B-4A42-986D-3C39FEDE9D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F576-F31F-44EB-A96D-51BF4FC87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A48-6B03-46C7-8DD9-159376AB6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C33C-AC62-4905-B2F4-C76490D122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13AC-9655-42CF-B160-5525A3DFA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15F6-4805-4F71-8DFE-2F86A31A66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EB5-CDDD-4FFC-858A-094539ADEB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ACAB-F744-45D4-AC78-23F811C46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E554-2C18-4E8E-BB95-5BDC59394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C3A1-6FC8-48B0-9AEF-0991AA7F2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2969-B8E5-4D75-94DD-E4D121A0C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C5B-2E5E-42D5-AA07-898D1ECAE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8EC7-4752-4E12-B460-08008E3833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5702-B56E-4DE9-944A-BF2CD1F09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210200" cy="6382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1571760" y="3429000"/>
            <a:ext cx="60102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1" descr=""/>
          <p:cNvPicPr/>
          <p:nvPr/>
        </p:nvPicPr>
        <p:blipFill>
          <a:blip r:embed="rId1"/>
          <a:stretch/>
        </p:blipFill>
        <p:spPr>
          <a:xfrm>
            <a:off x="571680" y="971640"/>
            <a:ext cx="8181720" cy="33145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2"/>
          <a:stretch/>
        </p:blipFill>
        <p:spPr>
          <a:xfrm>
            <a:off x="285840" y="9493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3"/>
          <a:stretch/>
        </p:blipFill>
        <p:spPr>
          <a:xfrm>
            <a:off x="285840" y="13572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285840" y="17748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5"/>
          <a:stretch/>
        </p:blipFill>
        <p:spPr>
          <a:xfrm>
            <a:off x="285840" y="218916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6"/>
          <a:stretch/>
        </p:blipFill>
        <p:spPr>
          <a:xfrm>
            <a:off x="285840" y="259236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7"/>
          <a:stretch/>
        </p:blipFill>
        <p:spPr>
          <a:xfrm>
            <a:off x="285840" y="30002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8"/>
          <a:stretch/>
        </p:blipFill>
        <p:spPr>
          <a:xfrm>
            <a:off x="285840" y="34290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9"/>
          <a:stretch/>
        </p:blipFill>
        <p:spPr>
          <a:xfrm>
            <a:off x="285840" y="384660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43880" cy="55818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3132000"/>
            <a:ext cx="8786880" cy="430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3571920"/>
            <a:ext cx="8786880" cy="8110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85840" y="4378320"/>
            <a:ext cx="8786880" cy="347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285840" y="4667400"/>
            <a:ext cx="8786880" cy="446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285840" y="5216400"/>
            <a:ext cx="8786880" cy="395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285840" y="5632560"/>
            <a:ext cx="87868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33360" y="1390680"/>
            <a:ext cx="8477280" cy="4076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285840" y="347976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285840" y="38782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285840" y="42688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5"/>
          <a:stretch/>
        </p:blipFill>
        <p:spPr>
          <a:xfrm>
            <a:off x="285840" y="46972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6"/>
          <a:stretch/>
        </p:blipFill>
        <p:spPr>
          <a:xfrm>
            <a:off x="285840" y="51148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515440" cy="6086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285840" y="276552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285840" y="3193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285840" y="3571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285840" y="39816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285840" y="4459320"/>
            <a:ext cx="8786880" cy="763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285840" y="5276880"/>
            <a:ext cx="8786880" cy="765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8"/>
          <a:stretch/>
        </p:blipFill>
        <p:spPr>
          <a:xfrm>
            <a:off x="285840" y="6091200"/>
            <a:ext cx="878688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2320" cy="53816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285840" y="3011400"/>
            <a:ext cx="6000840" cy="374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85840" y="3429000"/>
            <a:ext cx="6000840" cy="374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840" y="3857760"/>
            <a:ext cx="6000840" cy="374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85840" y="4268880"/>
            <a:ext cx="6000840" cy="374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85840" y="4646520"/>
            <a:ext cx="6000840" cy="374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7"/>
          <a:stretch/>
        </p:blipFill>
        <p:spPr>
          <a:xfrm>
            <a:off x="285840" y="5105520"/>
            <a:ext cx="6000840" cy="374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8"/>
          <a:stretch/>
        </p:blipFill>
        <p:spPr>
          <a:xfrm>
            <a:off x="285840" y="54928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9"/>
          <a:stretch/>
        </p:blipFill>
        <p:spPr>
          <a:xfrm>
            <a:off x="285840" y="591192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315200" cy="1666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762120" y="2747880"/>
            <a:ext cx="7667640" cy="1752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285840" y="1050840"/>
            <a:ext cx="8786880" cy="15559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85840" y="2876400"/>
            <a:ext cx="8786880" cy="689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285840" y="3703680"/>
            <a:ext cx="87868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420040" cy="58579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285840" y="3408480"/>
            <a:ext cx="5929200" cy="374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3"/>
          <a:stretch/>
        </p:blipFill>
        <p:spPr>
          <a:xfrm>
            <a:off x="285840" y="3805200"/>
            <a:ext cx="5929200" cy="374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4"/>
          <a:stretch/>
        </p:blipFill>
        <p:spPr>
          <a:xfrm>
            <a:off x="285840" y="4197240"/>
            <a:ext cx="5929200" cy="374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5"/>
          <a:stretch/>
        </p:blipFill>
        <p:spPr>
          <a:xfrm>
            <a:off x="285840" y="4626000"/>
            <a:ext cx="5929200" cy="374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6"/>
          <a:stretch/>
        </p:blipFill>
        <p:spPr>
          <a:xfrm>
            <a:off x="285840" y="5072040"/>
            <a:ext cx="5929200" cy="8175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7"/>
          <a:stretch/>
        </p:blipFill>
        <p:spPr>
          <a:xfrm>
            <a:off x="285840" y="5877000"/>
            <a:ext cx="87868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318960" y="1038240"/>
            <a:ext cx="8506080" cy="5391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285840" y="1479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285840" y="1908000"/>
            <a:ext cx="8786880" cy="824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285840" y="2733840"/>
            <a:ext cx="878688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542880" y="1038240"/>
            <a:ext cx="8058240" cy="5391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285840" y="1846440"/>
            <a:ext cx="4786200" cy="3762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285840" y="2274840"/>
            <a:ext cx="4786200" cy="3762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285840" y="26938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5"/>
          <a:stretch/>
        </p:blipFill>
        <p:spPr>
          <a:xfrm>
            <a:off x="285840" y="31114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6"/>
          <a:stretch/>
        </p:blipFill>
        <p:spPr>
          <a:xfrm>
            <a:off x="285840" y="35002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7"/>
          <a:stretch/>
        </p:blipFill>
        <p:spPr>
          <a:xfrm>
            <a:off x="285840" y="3917880"/>
            <a:ext cx="4786200" cy="3762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8"/>
          <a:stretch/>
        </p:blipFill>
        <p:spPr>
          <a:xfrm>
            <a:off x="285840" y="434016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9"/>
          <a:stretch/>
        </p:blipFill>
        <p:spPr>
          <a:xfrm>
            <a:off x="285840" y="47498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10"/>
          <a:stretch/>
        </p:blipFill>
        <p:spPr>
          <a:xfrm>
            <a:off x="285840" y="520704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11"/>
          <a:stretch/>
        </p:blipFill>
        <p:spPr>
          <a:xfrm>
            <a:off x="285840" y="55864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12"/>
          <a:stretch/>
        </p:blipFill>
        <p:spPr>
          <a:xfrm>
            <a:off x="285840" y="6004080"/>
            <a:ext cx="878688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1:41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